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B7C68-D6F6-49C2-BEB7-58C09DBC2B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4AB65-0213-4A6C-8CEA-F44DAD19D4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9AEE6-1CAA-48B3-96A7-FB583EEF01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CB3B19-E869-449F-AC2E-447A06874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54B70F-6F52-4D8D-8503-3CDBAC177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012B0D-04A6-4C32-A413-9368D53EB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EC10AC-35E4-444E-8899-6B5DB4134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8DB2D-DD3B-4674-8875-1BACAF4F3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22B37-E7EB-415A-BF5C-286864F12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69B81-BA0C-43C8-A748-4D38F89CC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FB1B1-C602-4D44-BF53-75398D1EF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A1BE1-36E3-4AF9-92D1-84FD92C35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F180B-12DF-41E3-A016-AA2B8E4F7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13D57-322D-4489-A1C3-6CA6BC708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65DBE0-2C29-406F-A87E-01B91B2B8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D83F3-BDBC-4BCB-BED2-CA00E3455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2DA3C-7230-457E-965F-78E0573D6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C5980-907E-467D-8A55-14252C918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0E3A6-DBBF-47C3-9541-F1FE69433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DE43B-4C44-4979-91E0-1D62E0DE0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8C9676-76AF-4CC2-8CB2-30312011B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574D4F-FF3A-47B9-A119-A330A212C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DE6262-DF67-49FD-B4AC-B674E0D1D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AA9FFD-E4C1-40DD-8BB4-56291C6BD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AC5A79-4726-403F-86CF-9A43B699C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0A25EA-F094-43BB-A023-FBF2B6DC6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BAB06-2D33-4970-8D0D-D1D61CB41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BA152-EA2A-4B3D-BF9E-2FB75BB9736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CEB33-360B-434C-856B-52F9E1B09C89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457200" y="624852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sonnel – Module 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3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6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90598-7A4C-47F7-9F2A-A8F8444FB93D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87FFC-E18E-4C46-B671-1B2F458C96E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624852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sonnel – Module 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Sample Orientation Check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Document"/>
          <p:cNvSpPr/>
          <p:nvPr/>
        </p:nvSpPr>
        <p:spPr>
          <a:xfrm>
            <a:off x="1143000" y="1219320"/>
            <a:ext cx="6781680" cy="5333760"/>
          </a:xfrm>
          <a:prstGeom prst="pie">
            <a:avLst/>
          </a:prstGeom>
          <a:solidFill>
            <a:srgbClr val="ffffd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y t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roductions to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y technical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sonnel key poli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y Quality Management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b 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371600" y="1447920"/>
            <a:ext cx="6629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295280" y="1371600"/>
            <a:ext cx="647712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AME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T DA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SITION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2FBEBB-485B-4D66-AB2B-9DC1F55C02B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838080" y="1219320"/>
            <a:ext cx="7925040" cy="3934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Verdana"/>
              </a:rPr>
              <a:t>Performance appraisal</a:t>
            </a:r>
            <a:br>
              <a:rPr sz="3600"/>
            </a:br>
            <a:r>
              <a:rPr b="1" i="1" lang="en-US" sz="3600" spc="-1" strike="noStrike">
                <a:solidFill>
                  <a:srgbClr val="000099"/>
                </a:solidFill>
                <a:latin typeface="Verdana"/>
              </a:rPr>
              <a:t> may highlight more opportunities for improvement </a:t>
            </a:r>
            <a:br>
              <a:rPr sz="3600"/>
            </a:br>
            <a:r>
              <a:rPr b="1" i="1" lang="en-US" sz="3600" spc="-1" strike="noStrike">
                <a:solidFill>
                  <a:srgbClr val="000099"/>
                </a:solidFill>
                <a:latin typeface="Verdana"/>
              </a:rPr>
              <a:t>for the laboratory than for the employe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1239840" cy="1981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C951A4-F2E2-448D-8EB2-2687FAABF80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Job Qualifications and Descri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520" y="1219320"/>
            <a:ext cx="830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boratory Management shall have job description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at define qualifications and duties for all personnel.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O 15189: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90720" y="2819520"/>
            <a:ext cx="3809880" cy="335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edu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certific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degr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prior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prior experi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a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029200" y="2819520"/>
            <a:ext cx="3657600" cy="335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pecify lines of autho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pecify responsibilit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ll ro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ll du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ll responsi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porting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90720" y="2438280"/>
            <a:ext cx="3809880" cy="381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Qualif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29200" y="2438280"/>
            <a:ext cx="3657600" cy="381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Job</a:t>
            </a: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Descri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B4700-84BD-4E77-82CC-6022E9AB5EF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Competency Assessment Checklist 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(to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57200" y="1981080"/>
          <a:ext cx="8229600" cy="4017960"/>
        </p:xfrm>
        <a:graphic>
          <a:graphicData uri="http://schemas.openxmlformats.org/drawingml/2006/table">
            <a:tbl>
              <a:tblPr/>
              <a:tblGrid>
                <a:gridCol w="2743200"/>
                <a:gridCol w="914400"/>
                <a:gridCol w="457200"/>
                <a:gridCol w="457200"/>
                <a:gridCol w="533520"/>
                <a:gridCol w="3124080"/>
              </a:tblGrid>
              <a:tr h="3528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chnologist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chnologist Tit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dure for Evalu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tion D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dure it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d procedure manu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n manual read lo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quipment availabl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 area ne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gent prepa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orm task accurate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orm task time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40950-C5BB-4B83-8C9D-F3DF7ABDAB8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Competency Assessment Checklist</a:t>
            </a: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botto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57200" y="1752480"/>
          <a:ext cx="8229600" cy="4435560"/>
        </p:xfrm>
        <a:graphic>
          <a:graphicData uri="http://schemas.openxmlformats.org/drawingml/2006/table">
            <a:tbl>
              <a:tblPr/>
              <a:tblGrid>
                <a:gridCol w="2743200"/>
                <a:gridCol w="914400"/>
                <a:gridCol w="914400"/>
                <a:gridCol w="533520"/>
                <a:gridCol w="3124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70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ment summa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798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training required to address deficiencies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196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ommended activities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assessment to occur in _____ day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04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s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71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ned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74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ed Technologi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F14D5E-EFA8-4386-829E-5931C1B0A5D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Verdana"/>
              </a:rPr>
              <a:t>Competency Assess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1523880"/>
            <a:ext cx="8610480" cy="4648320"/>
          </a:xfrm>
          <a:prstGeom prst="flowChartDocument">
            <a:avLst/>
          </a:prstGeom>
          <a:solidFill>
            <a:srgbClr val="ffffd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228600" y="1600200"/>
          <a:ext cx="8610480" cy="3916440"/>
        </p:xfrm>
        <a:graphic>
          <a:graphicData uri="http://schemas.openxmlformats.org/drawingml/2006/table">
            <a:tbl>
              <a:tblPr/>
              <a:tblGrid>
                <a:gridCol w="1143000"/>
                <a:gridCol w="914400"/>
                <a:gridCol w="1371600"/>
                <a:gridCol w="1371600"/>
                <a:gridCol w="1143000"/>
                <a:gridCol w="2666880"/>
              </a:tblGrid>
              <a:tr h="82800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etency  Assessment Lo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n Hospital – Microbiology Laborato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ploy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s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rais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/02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m St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, M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assess in 1 y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/02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rby-Bau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Al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ss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cement of disks too crowded;  Reassess 14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/03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rby-Bauer(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Al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assess in 1 y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/08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ad BC bott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, M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/10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tocentrifu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beya, Al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assess in 1 y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/04/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ll autocla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beya, Al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5/08/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ysis data ent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, M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ss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entry errors.  Read manual and reassess 10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06E6E0-9F79-4AC8-9F28-7640E17DC47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80880" y="1523880"/>
            <a:ext cx="3962520" cy="43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ork rel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ask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nked to competenc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viewing operator manu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viewing manual up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nufacturers’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quipment training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" y="685800"/>
            <a:ext cx="4038480" cy="64224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Training</a:t>
            </a:r>
            <a:br>
              <a:rPr sz="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0" y="1752480"/>
            <a:ext cx="4267080" cy="43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ork rel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y no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be task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y no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be linked to competency 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fer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orksho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ournal club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ournals and literature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648320" y="609480"/>
            <a:ext cx="4267080" cy="520560"/>
          </a:xfrm>
          <a:prstGeom prst="rect">
            <a:avLst/>
          </a:prstGeom>
          <a:solidFill>
            <a:srgbClr val="00007d"/>
          </a:solidFill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Continuing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934320" y="3733920"/>
            <a:ext cx="1782720" cy="14842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2666880" y="2971800"/>
            <a:ext cx="1109880" cy="12952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2819520" y="3505320"/>
            <a:ext cx="647640" cy="49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Verdana"/>
              </a:rPr>
              <a:t>Manual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85DDA7-7C27-4CEA-B26E-226A2AD785B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5AF81-11E3-4648-BF62-01FD1984FAB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Verdana"/>
              </a:rPr>
              <a:t>Training Resour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1295280"/>
            <a:ext cx="35812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Perso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quality assurance committ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nic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urs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athologis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fection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pidemiolog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800600" y="1295280"/>
            <a:ext cx="411480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xter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sesso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nufactur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cience societ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orld Health Orga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enters for Disease Contro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nd Preven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ndards developmen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ganiz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FN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514600" y="4191120"/>
            <a:ext cx="2130480" cy="2361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D1990C-3F29-48BD-A474-556C8919198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Verdana"/>
              </a:rPr>
              <a:t>Causes of Poor Perform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09480" y="1295280"/>
            <a:ext cx="37339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erson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ersonal heal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ersonal distra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isundersta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iscommun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D6FD4B-291D-47B6-A8D8-2817179386E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Verdana"/>
              </a:rPr>
              <a:t>Causes of Poor Perform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" y="1143000"/>
            <a:ext cx="74674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ystem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orksite distr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cessive worklo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or ori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ufficient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bsent competency 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e complex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bsent or invalid S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mbiguous S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233A45-BF12-4E90-ABD4-A0DF58EEBB7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Robin Barteluk</cp:lastModifiedBy>
  <dcterms:modified xsi:type="dcterms:W3CDTF">2008-11-23T23:58:18Z</dcterms:modified>
  <cp:revision>197</cp:revision>
  <dc:subject/>
  <dc:title>Slide 1</dc:title>
</cp:coreProperties>
</file>